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698-A208-48F7-A686-0627A7D9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461-52DC-4373-8EF2-D5765C25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F6800-2631-4F51-9624-E545805A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B5293-EC12-453A-BAF5-4D5BBDC3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E817C-0A1B-4C74-9AF8-0A109FA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9B5E5-DCB9-43AE-82C7-9D5D74B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0CBA7-31BA-4DF8-A59D-9F6F8536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B9913-B745-4397-82CA-F1CC1D0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4E0D3-279F-4001-9C4C-8496D13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EE9EC-6DEF-4AF2-B8B1-C993B58F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B9384-61E8-4871-BDF1-D0E47232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5A127-29C6-484F-B6D8-FFB81880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D2E-5C44-4A56-8F7C-1E2D5636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7167E-74FD-416A-B0E1-B8F63C30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BE3C7-E5D5-4535-8222-1B77203B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9FC89-FD50-458F-B9DB-75DEC8A0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F3EE0-F65A-4674-B2DC-5DB215A8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1CC87-3F68-420B-ABCC-0DD218F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3D1A3-6BF2-472A-BBC5-A48B29C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66387-52CD-471B-B8B9-4E67A6A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F2160-6CE3-4222-92C8-B15C590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17FEC-BD1C-4049-BD14-5A23A7C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EB41B-30DF-4017-935B-300E3AC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C80-F8C3-4AD9-8437-E0CE8A10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B7D80-CAAD-4828-80D8-F0B4D158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93ED1-137F-4B9B-A4FC-0CED09E6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0F92C-69DE-4988-AECE-B3CC16B0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4DE20-13F0-404B-8EE9-7E0861B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18EF-EE47-4FA7-993F-2FB621DF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42A9-96FA-4B6D-92BA-1A9FE655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95282-B795-4B83-B38F-44FF186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A2BA8-F7AC-497D-ADB5-C790430B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C65B4-A964-49EE-8D78-4541367D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67637-92CF-44C1-84B8-778E6FA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8722-FE4D-4164-B114-15FA5079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EF6D5-DE0D-4D1D-BDAA-E4B43473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177D8-F3C9-46CA-AA4F-36306028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944DD-699C-4735-ACDD-BBE6163C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FF57E-68DA-4CA5-A9AD-98C3E280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99966-28B0-42D0-AF66-55268722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6EEE6-1139-4498-848F-AF16C207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0648F-F975-4831-B94E-9B7BFDCB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38199-9B40-45B5-A71A-23758F2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6657A-80AB-4D45-BC4D-3AD3DE48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56B7F-5D52-48C8-85C6-E5C32D2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ADA9-AB78-4D38-B035-1569C7B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831E1-1C2C-47B1-AB1B-75EE1C7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A2BCB-48E4-4BF9-8503-8B8F16E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B4905-948E-4518-BBA2-EB618D6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62DDA-F63B-404C-95C7-B2885908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67058-FD4E-412A-B512-3234B230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2C61A-FCE0-4215-A964-AB6C6B95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39459-8A29-44C0-9F78-453E439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7246D-F109-4122-A554-9D5B0CB6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43812-1461-425B-9EE8-392AE31B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ADB39-75F5-4851-B14A-CB96A6D8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340-7862-425B-9D19-4E8A9373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47898-FF7B-4CDE-A930-8118F2DB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30335-4DC1-4559-BE4A-5B1FBE8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4D954-2AAF-44CF-AA19-618E4BE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43590-B0B1-450B-BE9A-2F8BCAD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231BA-B967-43A5-BE8E-2E7003D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A53AA-2B46-42A4-B125-C7393412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BFBE9-A0AE-4F51-9838-E82D4A59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3776C-37CE-40DD-8ECE-5FFD591C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5F557-BB20-49D2-AD31-0CB6C3E9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401DC-EA91-4C56-B1E9-003A124A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5059-1344-4F20-B180-A32ED79F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1A2B6-352F-4BC5-972B-0F12B3D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11775-72B2-46ED-B6AD-7F208341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3C415-1F55-4D36-BBDE-C92DB8B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188EC-A2D1-4F85-858C-620C740D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A3C9A-B7D1-42C9-AE93-8B1EED09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A1337-1F15-44E1-BA33-AFEB067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65348-4223-4FA8-93FF-8F6B7B34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F29B1-F6FD-4222-8B1E-1ED33652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5F0BF-11F4-480C-8A62-613449E8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54F18-E4D4-4717-86AF-35931FCC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2BDC-C02E-4673-9AE6-1C3A1354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CC632-1056-43F5-9A49-6A7445D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10FBA-F72F-42D0-B918-35F9523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00A25-2744-4BE3-AA38-1BBA46F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D8B01-75A2-4871-86D3-AA6F2304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C5ADA-1114-44E7-9398-723EF5D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C77DE-F42A-4CBF-8990-312DAC7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66B12-8A82-4ED7-BE80-CB6BF515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DD385-701A-4248-9834-C933708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31B4E-824C-4EBB-A9E5-9D0EA15C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A8695-E584-4DD0-89DD-E32277AA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9D30-6132-4DB5-9258-23164AE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D52E2-FAED-4533-B4F2-630933FD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B80CC-34D4-4ABB-B60E-15CAB459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ABB8E-4CBE-4A1B-A424-2103463A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AF16A-27AC-4491-A752-F7F5D745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8A8D0-D1BA-4E0E-9B0B-982184DC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5B4CE-6D84-4522-BF40-CDA42D20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B3F44-B99D-48BC-B0BB-06D6A9E8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332EA-88F4-43FC-988D-433B249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52060-4738-4C10-B579-6D9606F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F68EA-8741-497F-99D1-D753059C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2F2E-2702-4893-BCDD-AEE62A6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48916-4ABB-46A5-871B-E936FE3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8A02E-1894-4633-9278-42C0BD0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5C995-EA37-4154-8672-A5DCAC0E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8334B-4C74-4984-9A62-23428975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720AA-DFDF-4B0C-8B7F-7A60850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06EE2-BE18-40FA-8865-F80CC49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366C9-9B33-470B-BF09-BFFD0EF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5537D-17EE-4B9C-AD39-BD30D72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0F8C6-3B08-43B1-B9BA-644EB39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D1AED-3D6F-49DD-9A6B-2F01AB67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CC7-7205-484D-9762-6D257482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86DD-1E44-458C-AAC4-38542D3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8058F-8540-4826-8AA7-076F445A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1E002-D8C8-4286-BBAC-6EAE83F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389A9-8740-4BBE-858F-3713834C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193D3-5178-41BC-A0FA-761C593B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8F15E-74E8-43B2-B18F-44EF0334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DF78C-0618-4623-A4E4-7E730BE5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BB128-228B-4472-A3B8-DB8EE169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7BFA0-AF96-4848-AA63-0DE5AD49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C6E77-EBAF-45D8-A87D-460657DD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15A01-D2D4-4098-B0B6-B9729CF9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CCCF-0883-4F39-83AC-358DF9CB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C450F-6A33-4ABF-A1B5-AB2A740A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E358B-F30C-49F5-8F27-155251C9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CEBB9-F9FE-49F6-8CC0-C5C9EC6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9D73C-104A-412D-B1FB-31C498C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6B024-67F9-4C89-A4F4-46E7BB7D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6485B-1B05-4A3F-AF43-4D31A4D2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00CD8-5159-4D39-B0F5-96CD030E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FA433-DDD8-4597-AA86-4B5B92DA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4A915-9E44-48E8-9D38-D083B007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6A4A9-CC43-4DFE-839E-1A9331C1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EC55-E821-4CF5-8F06-7E650516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F48B4-1F26-41C5-BBBA-3F3B1150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115C5-E8C2-4BD8-AE7F-A7B3A94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B3CCF-21FD-4F94-8E2F-C2DBB5F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2438B-C4E4-429C-9DD7-606C196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60DBB-95A2-4D1B-B6F5-C997AB4C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A5AC9-8F27-4695-A8B1-22FC187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06999-8799-423E-B01B-41186245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E1F3E-E73F-46F9-9E0A-1F1F4DB9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CC610-26C7-4B89-A754-4D875D6D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3BED7-2F51-43C5-9F64-12462B48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EFF6-F366-4C48-B98A-CB0F3915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9007C-B963-4BC2-A854-EC3E23EB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AC9B5-148D-46EE-8A60-7C74D875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59EDB-8D76-43B6-8B70-EEFD8555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C2D3B-A1F4-44FD-B9E7-2F7616DE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47B0D7-4EFF-4F30-8F57-8AAA6DD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8D319-BDBD-4E5A-B185-FC91AF8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8008E-6A61-4295-954B-2690245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DADF3-C69D-4ADA-A044-7F2CDAD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4277A-BA67-4F98-83EE-C946F49A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2B651-7F92-4F0B-A1EA-51616E7D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EC1A-70C2-46DB-BCEE-EC5A382E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C721E-0857-4C83-B040-94662931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73C1E-DE9A-4C79-9D29-B0364ADF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718B4-A3B6-4D21-AC9A-5C5BD9C7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ED1BC-E5A0-4046-88ED-4C2E9907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007E6-2E5D-4052-80DD-5EBD91D0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1F8A53-A54D-4A13-A586-A0213F7E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94BD9-FA65-4E7D-A878-AEE652AC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9937B-010A-48D9-97E9-817D42EA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E4D3D-6876-483D-B635-6EA11AAB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942BA-F1F0-4DD6-B584-44123AA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3454-9A03-4EDB-A77F-0C5E0427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1A154-9CCE-4D0E-B184-370247C0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3FA75-4960-4CB8-A77D-9B474D32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CF34F-BFEF-44BE-BA99-E466BCE2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6E05D9-4A25-4C76-AE8C-90B65EAF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B863C-5729-4881-A9CD-DC25641E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1E18C-3D50-4979-81FA-9C1009AB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D14BE9-F1DC-49D8-92AD-7688D27E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502A7D-CEB5-4705-B5E2-C1BEA51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3D2DB3-9D64-4021-BFFB-D2BF37CC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B5DE4-CDEF-4F2E-AE2F-9CF8231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C4A5-342E-41F5-9968-CF6B02D3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76D9B-4396-4514-A6ED-B41B0104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A1777-19B2-4A0A-9571-2426E07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4F63B7-DFC3-43D5-B0CC-28D811A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EEBA5-4997-40E1-8AAC-36388B34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335BE3-1935-4D26-B4B0-4606A4C4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6FE2E5-12F8-4998-B426-5FEFB434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C7F491-367C-46F2-8D6C-CB646454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1ED454-B118-4957-B757-3395B246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B3238D-DF4D-4558-BF58-075345CD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B78214-6ED9-454C-8887-D8548C32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2CB8-B0BB-46D3-995E-20D4E283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8AC02A-C5D4-4ACC-B409-BEF91791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A319E0-3F4C-4693-A0C1-5224705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9E3A0-72B4-40A5-AE5F-D5A6A4A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01AA47-622C-4475-ACCE-0F43D057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E0A63C-68EC-48AF-9212-26A470BD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52E2C-C6D9-4507-A6C5-24489176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0AF4A5-B402-409B-AB26-50EDA849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00BC03-ABB9-423B-B78A-80A4B972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4C9FA2-EB2F-45DB-86FC-E729010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38F816-127C-4979-B093-24179291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DCAD-02CF-4F84-A974-BA1414C5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FC5908-5981-4D3E-B5F0-B1E6C4C8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20D434-73E7-4C93-8123-7F4A46A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EFA292-1CB7-44C7-B3CB-7E465871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F8870D-9DAF-43F8-8E9E-E34EEAD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561D61-4322-42F4-8F45-CDD8C33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CD9100-C663-423B-A7B1-66C46BF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E4C44-6DE6-4B4B-9002-8AB5C66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DB5A8E-2B8E-4128-B655-DF1358DF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984D13-E913-4723-A1E4-DDD22D74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2E50CF-F18C-44D7-ABC8-3F8F005C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1BEA-CF96-43FB-9E80-BC450DD0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4A50F1-F049-4C8B-8553-686111C1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1B0E0E-D30B-4F0E-B032-D924C53F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5CC25F-8CA8-4A64-9DFF-6E2E78EB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3CDD60-09C4-4F60-9D66-44956F2F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41BE2E-C64E-4C26-8DBD-0B1A4516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E23CFC-5A19-4980-9C03-D6298DE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7AC05D-F1FE-4F93-8D2A-1AD77F49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D00482-4A96-4A8F-AA66-4E578B5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5DE68A-7A6F-4BBE-963E-5F5227C8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BE6BA3-39A3-435F-9C54-898588E0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BE5-3948-436D-88F5-D3125236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59CE-C598-48A8-BEDD-68BB787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F85AEC-FBAB-4ABA-A4DD-EFBE18C6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C53720-A2C0-4CAB-A799-DC6C83DE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E911F5-1A46-4CF5-9B4C-9A7350A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696255-1CF9-44A1-9B59-1C310621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8A28CB-6082-4DA8-A3F4-CCD6BC8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B7DA19-2CAD-4865-891D-982B2F02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AF93F4-C9FD-4409-B7FB-AD4D2427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BD415B-FEF4-45EC-87A3-3A85A05F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65E54F-9A47-448F-B8B4-35D607E4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90FD3B-C47E-4F19-AC3C-B00C37F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6F11-BB1E-4DAE-8546-EECF177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E3AB72-B140-483E-AC53-CB467C9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DDD79E-0AA1-411E-BC7F-A9642D1B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51441F-E89A-4E6C-BEC6-E21E736F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3F4F60-8D69-42AD-866C-8ECCF14D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04EDC1-487A-4FE3-8198-3191BAE3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FE84DD-6794-4A32-8F7E-DF64DF20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031DD0-9ED8-45E1-B0DD-1AC7935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F9F9AA-F119-413F-9F3B-BDF4CF66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1D67A0-6404-4117-B852-B1B8DF82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C63987-B70F-4EB2-B97C-75FFD309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2360-2426-4A26-99D7-C9F21A2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B80776-CCA4-42F7-AA75-64FCFD1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16C8FA-02FE-4182-9AEA-9EC31E6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A184A-1CA0-452B-A893-5449377F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AFEB07-97BC-4E59-9886-C1DF791A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3B34C2-8BF4-49C2-999D-44FDD939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D6AC8D-151F-4D23-87C8-97FA8E46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9C2089-DB65-4DC7-8DA0-FFE31015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B99725-5E64-458B-A0ED-087B7733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6D9EFF-4353-43A5-82CD-6BC7FE28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D12143-5996-4BDC-8A05-F6EE40D7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DEA2-9FA3-4742-8F6E-D9B62C6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DE454A-F3BA-439B-B3C3-208DE914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D499FA-7359-478C-87B0-104A36B8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B88E54-902B-4189-9E3F-4DAF798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BA62D0-C94B-44C6-B853-C4F4CDFB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A75E76-F3A8-4AB8-9947-22D7B7B5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8BAAEC-9C80-4189-9C7E-4349D0B7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78C915-EF46-4BA4-AEE8-ADB87741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9E0A6B-01A0-4D08-8A97-FDC6230D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ACD34B-2713-4644-AAB6-C5CA932A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8E1CDD-6BA4-47DC-881A-5F54EAE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2AF0-9C28-4F15-B2FD-9795A16B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9DF48F-BFFB-431F-9F02-571A35A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795292-3CD1-4FF1-932B-802B8B91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1F6BC1-F342-40CF-BB15-20C5022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F1600C-60E4-46F3-BD0B-1190331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DF5CD0-4766-49CB-850F-83504CB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025088-FA15-4C9D-8C1F-39C9FF3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477FBE-933F-4C94-B8F2-2E6E3CE9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E7FA43-C307-43C3-8552-0375783A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477867-3276-414F-B605-082B75F7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06D050-7EBE-459D-BEBA-C863ACA0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255A-E295-498C-8EB7-7B967A46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D4204F-C88F-40DE-91D8-62B943CC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D9502D-4527-4126-9ADD-89237AE6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82C545-CAEB-4CB9-A603-78B8739A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B99361-32CC-45FE-8797-FCDBE0C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788425-74E2-4231-BCEA-3D542A8B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11A483-594D-40BE-89D9-DA59DB0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22FB73-FF54-4055-8349-622E5EA3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7CEA92-7464-42C3-9D79-D6B4E7A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AE627E-8FF7-43F7-BD3A-CA02B4A7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2E57B7-BFE2-4E68-B2BB-88A06DBE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BF01-3385-4E8F-AC57-6199C2A6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CF5109-0BD9-4001-A2DC-C16B3728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2EF6F5-DE91-43D6-B6FE-727864B6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D9B2C3-43D2-4D9F-880A-6D874796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9800EE-AD3C-4A44-8A18-F2C21833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986397-BFB6-4CA3-ADB2-016BCC1B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F7C2CE-BE15-413B-879C-0084B1EC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D64BB8-8F2C-48FB-93DB-2BD18A2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192F0F-51DE-43ED-ACC2-A0BF64F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FC17BA-B63D-48DE-BB65-E6B3490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D373B6-D6C2-4EC0-BA99-E84161EA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5058-EB3D-49B5-93E9-2B076478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1F2259-6C35-4E8E-A2AB-D0B7D40C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1A5ED3-C7A2-427D-9C15-6819070A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108468-8C89-4A1D-AB2B-BBAD59F2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132C-A4D0-43FC-9598-0AAE0CC8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7F1A-4824-4168-BBA7-A09C792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14F-172C-48AC-9992-BE0F6D13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E881-62D5-4F57-BBAA-5FC4750D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EF4A-529C-4306-8FDA-EAAA9D9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B019-1BF6-4E4D-A476-75539D7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EF31-8C4D-4070-AE90-9AB2A89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4093-9F19-472A-B7D2-71239A02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D5F3-0BC5-469D-9A2F-98F55550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86FB-E2EC-42A2-8199-1F302CD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F31D-5349-490A-B63E-47BD1900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23225-0426-41B2-A46A-13E11E51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E24F-89EB-4305-AD18-CDBB4AF5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2B7-8956-482E-9BFD-746342B0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A60E-85EC-405D-BAB1-32F3DC20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378E-C60B-48A6-8FC9-42785BF1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875B-575C-43CF-A1DA-82B03763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43562-45C7-42D2-97B2-95717F6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4DC1F-FA8A-4247-9155-E951A12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B14F-CFAF-4193-BB6E-631B5E15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0B6A-0BD6-40BF-ACD0-62CB1B8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6235-DE39-4B3F-B99E-F0562317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587C-5B5D-4716-B92B-7F93EFD6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6C82-D209-48E6-832B-F3DB97CE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143-F082-452F-9E37-05954434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71698-9AB8-4FC8-8653-C88EEE86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2046C-C318-4D7F-9BE4-B37DC9F5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CCFD-CAA4-4985-B7A1-E2095474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D1BB-DCCA-4142-9675-ECF26A9A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C8A6-C2E9-4A44-9A7A-AB275E3F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6FB3-84C0-4C44-B184-44064AC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91E9A-5CBC-4815-88FF-ED893F4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75735-7756-46A8-841F-33E215E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D252E-8BAA-466E-B959-F3380927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ECD8D-9230-4680-960F-1DD11EE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3B8-FAE7-4B33-9B47-D4D6B743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2613-AC89-420F-A160-ACD44EB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34A99-2E4E-4728-89B8-2C1ECD54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D717-B179-4F7B-B61B-5810A588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648BE-B6C5-45AF-A001-A11A251C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3BBF3-06DF-42E7-9AD0-7B0EA194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87E9C-F744-4C05-BB37-CE5B1A81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E6CC-237C-4C89-8562-B6AF0F9C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9DCAF-DDAF-40E9-A774-EFE3664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F6F2-956D-4B89-996D-6FE6F49F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CB08-88FF-4305-B728-E41565F3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56C-CB35-4819-A647-CF24F008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E918-6395-4A63-863D-6212A51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D8CD-7643-49D7-9365-B8D46A16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098C-2C22-40F4-9609-4D13F4F9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EB72-5106-4E94-9508-5F5ACBEA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5236C-56DE-4C00-85BB-B4C25429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B299F-77B6-437D-B573-BAB8300F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0B1D0-2481-4F7F-938C-7A4F3789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1859-1024-4F58-9ADE-C32F785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6945-6A84-41B5-B710-0CDEC5AE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9F73-362F-401A-9623-151D0D34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D59-01D7-46FE-A3AA-7F8053A9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398EF-B5E8-4E3B-984F-04C7F70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24A4A-3B45-4B33-BCF2-4FF1E85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F76DD-B13A-4585-A86D-B82408A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09C30-0B4D-46E9-92FD-7676020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4D7A8-8206-4574-A495-41CB043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63F5-8933-4398-B2C2-E73602CC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D9677-AF05-4198-AECF-941CC360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1FC27-2A7E-4BE4-A4AB-073C064A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245F7-3C1F-4219-AF55-A328BE71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8D272-CB93-4F06-B922-FFB6BFCB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869B-9019-4406-83A5-2718593CC9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FF1-F26E-42C2-AD41-9FA0A82DD9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A4D3-01D2-4E5C-9BAA-74B2727177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21F-944A-4AFF-8CA2-57031A7E3A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78F-7A49-4467-A4A2-B5622D6C4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8B6-646C-4655-B18C-C58056CBA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150B-0CAC-4733-A948-86775B8DD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99EF-C5BB-49D8-8CD0-7837D07E3E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5FB7-E8AF-4219-A914-FAECACE1D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5F02-3DAA-4168-9573-1BE942EE7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0FE3-3D9D-4692-90A2-8EB011C5B6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5C6D-FBEB-401E-9DB9-6ED3DDCEF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1C3-F918-49AA-8A76-713E19C43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28EF-A238-4DC8-9F89-E8AA69FCD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8D8-AC00-490D-A43E-72089DD22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3B7-48F8-43CE-8770-1E19855CA6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695-71A1-402B-9138-6A9D33FD2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E25D-B31C-4E61-B611-633DFC423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FF72-A0AA-4573-8456-F9A63DB5BE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CD6C-BA45-47DA-9D05-6367DCD89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A77-24A2-48E9-AA8F-455145FE7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204D-7E1C-47AD-ADA4-3D4B7B5844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9BF9-B41E-44C5-8791-07FB9CF42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E0AF-78F0-43F1-94BF-530BF7A9FC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5CA8-4033-42B1-B60D-79CBD7CE03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8A10-DBF4-4828-B5EE-CFC62DF47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A230-F428-414D-BF8B-3ED509911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3FD9-D6F6-49F0-A465-A13422E0C6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3CEA-D7F7-4F7D-B2AD-7E63B55B6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A2F5-017C-42AF-AE54-72444BFF3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501-FECA-4D84-80C0-25E429A3F9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418A-A9C7-4CBD-B7BD-87172C9B9E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A85-2CAC-4929-A4AD-5B7ED9CB46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19EE-5FAD-43DD-A520-A4F3B8363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CCD7-4777-4D99-8FE3-9D6B32591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3AF-9006-4951-983D-35A59EC93E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A2EB-0DA7-4BDE-852B-DE7001EB51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703E-D785-40E0-B054-9557EC1E53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AF55-3238-4349-AEDB-26F911228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5115-8D66-4215-833B-5A7916C51C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4248-D22B-4F38-BD1E-FA9D85558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F80E-8438-49AB-890E-E49E8E9CFB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1F3-A421-4C67-8E7C-2449317EC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C3B-E30D-4A75-96B4-479405353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8A75-D678-4124-AF0C-4AB5A353A9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E8F3-A2F8-4F5B-809C-FFCFC8E48F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3F24-A369-49B4-8663-B547F4CCFF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298D-D9B0-44A6-BB68-AD8905BDA0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6F19-2FC0-495D-AF9A-1A15B9D13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9CE-BF45-4F1B-B331-8BF711CF8E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486080" y="3138480"/>
            <a:ext cx="61722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6737" descr=""/>
          <p:cNvPicPr/>
          <p:nvPr/>
        </p:nvPicPr>
        <p:blipFill>
          <a:blip r:embed="rId1"/>
          <a:stretch/>
        </p:blipFill>
        <p:spPr>
          <a:xfrm>
            <a:off x="566640" y="1623960"/>
            <a:ext cx="8010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115713" descr=""/>
          <p:cNvPicPr/>
          <p:nvPr/>
        </p:nvPicPr>
        <p:blipFill>
          <a:blip r:embed="rId1"/>
          <a:stretch/>
        </p:blipFill>
        <p:spPr>
          <a:xfrm>
            <a:off x="871560" y="1924200"/>
            <a:ext cx="7400880" cy="300960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15714"/>
          <p:cNvSpPr/>
          <p:nvPr/>
        </p:nvSpPr>
        <p:spPr>
          <a:xfrm>
            <a:off x="5784840" y="1938240"/>
            <a:ext cx="11080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5715"/>
          <p:cNvSpPr/>
          <p:nvPr/>
        </p:nvSpPr>
        <p:spPr>
          <a:xfrm>
            <a:off x="5796000" y="2997360"/>
            <a:ext cx="15937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5716"/>
          <p:cNvSpPr/>
          <p:nvPr/>
        </p:nvSpPr>
        <p:spPr>
          <a:xfrm>
            <a:off x="5975280" y="3500280"/>
            <a:ext cx="8701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5717"/>
          <p:cNvSpPr/>
          <p:nvPr/>
        </p:nvSpPr>
        <p:spPr>
          <a:xfrm>
            <a:off x="6804000" y="4508640"/>
            <a:ext cx="8701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1468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13665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10600" cy="511488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13666"/>
          <p:cNvSpPr/>
          <p:nvPr/>
        </p:nvSpPr>
        <p:spPr>
          <a:xfrm>
            <a:off x="6127920" y="4138560"/>
            <a:ext cx="946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3667"/>
          <p:cNvSpPr/>
          <p:nvPr/>
        </p:nvSpPr>
        <p:spPr>
          <a:xfrm>
            <a:off x="2916360" y="4653000"/>
            <a:ext cx="5173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3668"/>
          <p:cNvSpPr/>
          <p:nvPr/>
        </p:nvSpPr>
        <p:spPr>
          <a:xfrm>
            <a:off x="5292720" y="4672080"/>
            <a:ext cx="517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3669"/>
          <p:cNvSpPr/>
          <p:nvPr/>
        </p:nvSpPr>
        <p:spPr>
          <a:xfrm>
            <a:off x="2455920" y="5157720"/>
            <a:ext cx="1336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3670"/>
          <p:cNvSpPr/>
          <p:nvPr/>
        </p:nvSpPr>
        <p:spPr>
          <a:xfrm>
            <a:off x="5076720" y="5157720"/>
            <a:ext cx="19656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3671"/>
          <p:cNvSpPr/>
          <p:nvPr/>
        </p:nvSpPr>
        <p:spPr>
          <a:xfrm>
            <a:off x="2484360" y="5680080"/>
            <a:ext cx="19652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12641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39040" cy="356256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12642"/>
          <p:cNvSpPr/>
          <p:nvPr/>
        </p:nvSpPr>
        <p:spPr>
          <a:xfrm>
            <a:off x="6118200" y="166212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2643"/>
          <p:cNvSpPr/>
          <p:nvPr/>
        </p:nvSpPr>
        <p:spPr>
          <a:xfrm>
            <a:off x="3535200" y="2171880"/>
            <a:ext cx="9464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12644"/>
          <p:cNvSpPr/>
          <p:nvPr/>
        </p:nvSpPr>
        <p:spPr>
          <a:xfrm>
            <a:off x="5283360" y="216216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2645"/>
          <p:cNvSpPr/>
          <p:nvPr/>
        </p:nvSpPr>
        <p:spPr>
          <a:xfrm>
            <a:off x="4121280" y="265572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2646"/>
          <p:cNvSpPr/>
          <p:nvPr/>
        </p:nvSpPr>
        <p:spPr>
          <a:xfrm>
            <a:off x="7308720" y="3170160"/>
            <a:ext cx="9464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12647"/>
          <p:cNvSpPr/>
          <p:nvPr/>
        </p:nvSpPr>
        <p:spPr>
          <a:xfrm>
            <a:off x="2212920" y="3728880"/>
            <a:ext cx="4320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12648"/>
          <p:cNvSpPr/>
          <p:nvPr/>
        </p:nvSpPr>
        <p:spPr>
          <a:xfrm>
            <a:off x="7236000" y="3706920"/>
            <a:ext cx="94608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12649"/>
          <p:cNvSpPr/>
          <p:nvPr/>
        </p:nvSpPr>
        <p:spPr>
          <a:xfrm>
            <a:off x="2139840" y="4265640"/>
            <a:ext cx="432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12650"/>
          <p:cNvSpPr/>
          <p:nvPr/>
        </p:nvSpPr>
        <p:spPr>
          <a:xfrm>
            <a:off x="3635280" y="422100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12651"/>
          <p:cNvSpPr/>
          <p:nvPr/>
        </p:nvSpPr>
        <p:spPr>
          <a:xfrm>
            <a:off x="7020000" y="422100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图片 111617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933720" cy="981360"/>
          </a:xfrm>
          <a:prstGeom prst="rect">
            <a:avLst/>
          </a:prstGeom>
          <a:ln w="0">
            <a:noFill/>
          </a:ln>
        </p:spPr>
      </p:pic>
      <p:pic>
        <p:nvPicPr>
          <p:cNvPr id="1516" name="图片 111618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6067440" cy="399960"/>
          </a:xfrm>
          <a:prstGeom prst="rect">
            <a:avLst/>
          </a:prstGeom>
          <a:ln w="0">
            <a:noFill/>
          </a:ln>
        </p:spPr>
      </p:pic>
      <p:pic>
        <p:nvPicPr>
          <p:cNvPr id="1517" name="图片 111619" descr=""/>
          <p:cNvPicPr/>
          <p:nvPr/>
        </p:nvPicPr>
        <p:blipFill>
          <a:blip r:embed="rId3"/>
          <a:stretch/>
        </p:blipFill>
        <p:spPr>
          <a:xfrm>
            <a:off x="477720" y="2311560"/>
            <a:ext cx="5077080" cy="390240"/>
          </a:xfrm>
          <a:prstGeom prst="rect">
            <a:avLst/>
          </a:prstGeom>
          <a:ln w="0">
            <a:noFill/>
          </a:ln>
        </p:spPr>
      </p:pic>
      <p:pic>
        <p:nvPicPr>
          <p:cNvPr id="1518" name="图片 111620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5553360" cy="743040"/>
          </a:xfrm>
          <a:prstGeom prst="rect">
            <a:avLst/>
          </a:prstGeom>
          <a:ln w="0">
            <a:noFill/>
          </a:ln>
        </p:spPr>
      </p:pic>
      <p:pic>
        <p:nvPicPr>
          <p:cNvPr id="1519" name="图片 111621" descr=""/>
          <p:cNvPicPr/>
          <p:nvPr/>
        </p:nvPicPr>
        <p:blipFill>
          <a:blip r:embed="rId5"/>
          <a:stretch/>
        </p:blipFill>
        <p:spPr>
          <a:xfrm>
            <a:off x="468360" y="3789360"/>
            <a:ext cx="5705280" cy="695160"/>
          </a:xfrm>
          <a:prstGeom prst="rect">
            <a:avLst/>
          </a:prstGeom>
          <a:ln w="0">
            <a:noFill/>
          </a:ln>
        </p:spPr>
      </p:pic>
      <p:pic>
        <p:nvPicPr>
          <p:cNvPr id="1520" name="图片 111622" descr=""/>
          <p:cNvPicPr/>
          <p:nvPr/>
        </p:nvPicPr>
        <p:blipFill>
          <a:blip r:embed="rId6"/>
          <a:stretch/>
        </p:blipFill>
        <p:spPr>
          <a:xfrm>
            <a:off x="468360" y="4653000"/>
            <a:ext cx="3066840" cy="685800"/>
          </a:xfrm>
          <a:prstGeom prst="rect">
            <a:avLst/>
          </a:prstGeom>
          <a:ln w="0">
            <a:noFill/>
          </a:ln>
        </p:spPr>
      </p:pic>
      <p:pic>
        <p:nvPicPr>
          <p:cNvPr id="1521" name="图片 111624" descr=""/>
          <p:cNvPicPr/>
          <p:nvPr/>
        </p:nvPicPr>
        <p:blipFill>
          <a:blip r:embed="rId7"/>
          <a:stretch/>
        </p:blipFill>
        <p:spPr>
          <a:xfrm>
            <a:off x="1563840" y="2924280"/>
            <a:ext cx="1419120" cy="62856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111628" descr=""/>
          <p:cNvPicPr/>
          <p:nvPr/>
        </p:nvPicPr>
        <p:blipFill>
          <a:blip r:embed="rId8"/>
          <a:stretch/>
        </p:blipFill>
        <p:spPr>
          <a:xfrm>
            <a:off x="4309920" y="2919240"/>
            <a:ext cx="1648080" cy="628920"/>
          </a:xfrm>
          <a:prstGeom prst="rect">
            <a:avLst/>
          </a:prstGeom>
          <a:ln w="0">
            <a:noFill/>
          </a:ln>
        </p:spPr>
      </p:pic>
      <p:pic>
        <p:nvPicPr>
          <p:cNvPr id="1523" name="图片 111629" descr=""/>
          <p:cNvPicPr/>
          <p:nvPr/>
        </p:nvPicPr>
        <p:blipFill>
          <a:blip r:embed="rId9"/>
          <a:stretch/>
        </p:blipFill>
        <p:spPr>
          <a:xfrm>
            <a:off x="1712880" y="3827520"/>
            <a:ext cx="1647720" cy="628560"/>
          </a:xfrm>
          <a:prstGeom prst="rect">
            <a:avLst/>
          </a:prstGeom>
          <a:ln w="0">
            <a:noFill/>
          </a:ln>
        </p:spPr>
      </p:pic>
      <p:pic>
        <p:nvPicPr>
          <p:cNvPr id="1524" name="图片 111630" descr=""/>
          <p:cNvPicPr/>
          <p:nvPr/>
        </p:nvPicPr>
        <p:blipFill>
          <a:blip r:embed="rId10"/>
          <a:stretch/>
        </p:blipFill>
        <p:spPr>
          <a:xfrm>
            <a:off x="4659480" y="3832200"/>
            <a:ext cx="1419120" cy="62856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111632" descr=""/>
          <p:cNvPicPr/>
          <p:nvPr/>
        </p:nvPicPr>
        <p:blipFill>
          <a:blip r:embed="rId11"/>
          <a:stretch/>
        </p:blipFill>
        <p:spPr>
          <a:xfrm>
            <a:off x="1692360" y="4686480"/>
            <a:ext cx="1647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30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790720" cy="6480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12493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324160" cy="25704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124932" descr=""/>
          <p:cNvPicPr/>
          <p:nvPr/>
        </p:nvPicPr>
        <p:blipFill>
          <a:blip r:embed="rId3"/>
          <a:stretch/>
        </p:blipFill>
        <p:spPr>
          <a:xfrm>
            <a:off x="674640" y="1681200"/>
            <a:ext cx="8048520" cy="2733480"/>
          </a:xfrm>
          <a:prstGeom prst="rect">
            <a:avLst/>
          </a:prstGeom>
          <a:ln w="0">
            <a:noFill/>
          </a:ln>
        </p:spPr>
      </p:pic>
      <p:pic>
        <p:nvPicPr>
          <p:cNvPr id="1436" name="图片 124933" descr=""/>
          <p:cNvPicPr/>
          <p:nvPr/>
        </p:nvPicPr>
        <p:blipFill>
          <a:blip r:embed="rId4"/>
          <a:stretch/>
        </p:blipFill>
        <p:spPr>
          <a:xfrm>
            <a:off x="530280" y="4505400"/>
            <a:ext cx="2095560" cy="247680"/>
          </a:xfrm>
          <a:prstGeom prst="rect">
            <a:avLst/>
          </a:prstGeom>
          <a:ln w="0">
            <a:noFill/>
          </a:ln>
        </p:spPr>
      </p:pic>
      <p:pic>
        <p:nvPicPr>
          <p:cNvPr id="1437" name="图片 124934" descr=""/>
          <p:cNvPicPr/>
          <p:nvPr/>
        </p:nvPicPr>
        <p:blipFill>
          <a:blip r:embed="rId5"/>
          <a:stretch/>
        </p:blipFill>
        <p:spPr>
          <a:xfrm>
            <a:off x="817560" y="4807080"/>
            <a:ext cx="8067600" cy="1923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4936"/>
          <p:cNvSpPr/>
          <p:nvPr/>
        </p:nvSpPr>
        <p:spPr>
          <a:xfrm>
            <a:off x="6288120" y="2266920"/>
            <a:ext cx="12193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7"/>
          <p:cNvSpPr/>
          <p:nvPr/>
        </p:nvSpPr>
        <p:spPr>
          <a:xfrm>
            <a:off x="2214720" y="268920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8"/>
          <p:cNvSpPr/>
          <p:nvPr/>
        </p:nvSpPr>
        <p:spPr>
          <a:xfrm>
            <a:off x="2700360" y="314172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9"/>
          <p:cNvSpPr/>
          <p:nvPr/>
        </p:nvSpPr>
        <p:spPr>
          <a:xfrm>
            <a:off x="4983120" y="313380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40"/>
          <p:cNvSpPr/>
          <p:nvPr/>
        </p:nvSpPr>
        <p:spPr>
          <a:xfrm>
            <a:off x="6659640" y="314172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41"/>
          <p:cNvSpPr/>
          <p:nvPr/>
        </p:nvSpPr>
        <p:spPr>
          <a:xfrm>
            <a:off x="3419640" y="3592440"/>
            <a:ext cx="599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2"/>
          <p:cNvSpPr/>
          <p:nvPr/>
        </p:nvSpPr>
        <p:spPr>
          <a:xfrm>
            <a:off x="6400800" y="476244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3"/>
          <p:cNvSpPr/>
          <p:nvPr/>
        </p:nvSpPr>
        <p:spPr>
          <a:xfrm>
            <a:off x="1447920" y="5191200"/>
            <a:ext cx="16714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4"/>
          <p:cNvSpPr/>
          <p:nvPr/>
        </p:nvSpPr>
        <p:spPr>
          <a:xfrm>
            <a:off x="1403280" y="558972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5"/>
          <p:cNvSpPr/>
          <p:nvPr/>
        </p:nvSpPr>
        <p:spPr>
          <a:xfrm>
            <a:off x="3602160" y="5599080"/>
            <a:ext cx="1214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6"/>
          <p:cNvSpPr/>
          <p:nvPr/>
        </p:nvSpPr>
        <p:spPr>
          <a:xfrm>
            <a:off x="4033800" y="602136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7"/>
          <p:cNvSpPr/>
          <p:nvPr/>
        </p:nvSpPr>
        <p:spPr>
          <a:xfrm>
            <a:off x="5292720" y="602136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4948"/>
          <p:cNvSpPr/>
          <p:nvPr/>
        </p:nvSpPr>
        <p:spPr>
          <a:xfrm>
            <a:off x="7956720" y="6021360"/>
            <a:ext cx="599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3906" descr=""/>
          <p:cNvPicPr/>
          <p:nvPr/>
        </p:nvPicPr>
        <p:blipFill>
          <a:blip r:embed="rId1"/>
          <a:stretch/>
        </p:blipFill>
        <p:spPr>
          <a:xfrm>
            <a:off x="361800" y="1424160"/>
            <a:ext cx="8420400" cy="40096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3907"/>
          <p:cNvSpPr/>
          <p:nvPr/>
        </p:nvSpPr>
        <p:spPr>
          <a:xfrm>
            <a:off x="8211960" y="2819520"/>
            <a:ext cx="3146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3908"/>
          <p:cNvSpPr/>
          <p:nvPr/>
        </p:nvSpPr>
        <p:spPr>
          <a:xfrm>
            <a:off x="8215200" y="4086360"/>
            <a:ext cx="314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22881" descr=""/>
          <p:cNvPicPr/>
          <p:nvPr/>
        </p:nvPicPr>
        <p:blipFill>
          <a:blip r:embed="rId1"/>
          <a:stretch/>
        </p:blipFill>
        <p:spPr>
          <a:xfrm>
            <a:off x="371520" y="800280"/>
            <a:ext cx="8400960" cy="52578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22882"/>
          <p:cNvSpPr/>
          <p:nvPr/>
        </p:nvSpPr>
        <p:spPr>
          <a:xfrm>
            <a:off x="3344760" y="2324160"/>
            <a:ext cx="1238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2883"/>
          <p:cNvSpPr/>
          <p:nvPr/>
        </p:nvSpPr>
        <p:spPr>
          <a:xfrm>
            <a:off x="5229360" y="2305080"/>
            <a:ext cx="1371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84"/>
          <p:cNvSpPr/>
          <p:nvPr/>
        </p:nvSpPr>
        <p:spPr>
          <a:xfrm>
            <a:off x="3727440" y="2727360"/>
            <a:ext cx="1371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2885"/>
          <p:cNvSpPr/>
          <p:nvPr/>
        </p:nvSpPr>
        <p:spPr>
          <a:xfrm>
            <a:off x="5734080" y="2733840"/>
            <a:ext cx="1371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86"/>
          <p:cNvSpPr/>
          <p:nvPr/>
        </p:nvSpPr>
        <p:spPr>
          <a:xfrm>
            <a:off x="6764400" y="3162240"/>
            <a:ext cx="3618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2887"/>
          <p:cNvSpPr/>
          <p:nvPr/>
        </p:nvSpPr>
        <p:spPr>
          <a:xfrm>
            <a:off x="8172360" y="4076640"/>
            <a:ext cx="3621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21857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58240" cy="55148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21858"/>
          <p:cNvSpPr/>
          <p:nvPr/>
        </p:nvSpPr>
        <p:spPr>
          <a:xfrm>
            <a:off x="5154480" y="3357720"/>
            <a:ext cx="11462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1859"/>
          <p:cNvSpPr/>
          <p:nvPr/>
        </p:nvSpPr>
        <p:spPr>
          <a:xfrm>
            <a:off x="7880400" y="3376440"/>
            <a:ext cx="6033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1860"/>
          <p:cNvSpPr/>
          <p:nvPr/>
        </p:nvSpPr>
        <p:spPr>
          <a:xfrm>
            <a:off x="1403280" y="3870360"/>
            <a:ext cx="865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1861"/>
          <p:cNvSpPr/>
          <p:nvPr/>
        </p:nvSpPr>
        <p:spPr>
          <a:xfrm>
            <a:off x="5076720" y="4384800"/>
            <a:ext cx="8654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1862"/>
          <p:cNvSpPr/>
          <p:nvPr/>
        </p:nvSpPr>
        <p:spPr>
          <a:xfrm>
            <a:off x="7596360" y="4403880"/>
            <a:ext cx="865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21863"/>
          <p:cNvSpPr/>
          <p:nvPr/>
        </p:nvSpPr>
        <p:spPr>
          <a:xfrm>
            <a:off x="1343160" y="4916520"/>
            <a:ext cx="603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1864"/>
          <p:cNvSpPr/>
          <p:nvPr/>
        </p:nvSpPr>
        <p:spPr>
          <a:xfrm>
            <a:off x="2790720" y="4897440"/>
            <a:ext cx="1089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21865"/>
          <p:cNvSpPr/>
          <p:nvPr/>
        </p:nvSpPr>
        <p:spPr>
          <a:xfrm>
            <a:off x="5219640" y="4888080"/>
            <a:ext cx="865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21866"/>
          <p:cNvSpPr/>
          <p:nvPr/>
        </p:nvSpPr>
        <p:spPr>
          <a:xfrm>
            <a:off x="3492360" y="5425920"/>
            <a:ext cx="14083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21867"/>
          <p:cNvSpPr/>
          <p:nvPr/>
        </p:nvSpPr>
        <p:spPr>
          <a:xfrm>
            <a:off x="6659640" y="5445000"/>
            <a:ext cx="14079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21868"/>
          <p:cNvSpPr/>
          <p:nvPr/>
        </p:nvSpPr>
        <p:spPr>
          <a:xfrm>
            <a:off x="4067280" y="5877000"/>
            <a:ext cx="14079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20833" descr=""/>
          <p:cNvPicPr/>
          <p:nvPr/>
        </p:nvPicPr>
        <p:blipFill>
          <a:blip r:embed="rId1"/>
          <a:stretch/>
        </p:blipFill>
        <p:spPr>
          <a:xfrm>
            <a:off x="771480" y="1295280"/>
            <a:ext cx="7601040" cy="426744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20834"/>
          <p:cNvSpPr/>
          <p:nvPr/>
        </p:nvSpPr>
        <p:spPr>
          <a:xfrm>
            <a:off x="1612800" y="1357200"/>
            <a:ext cx="17938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20835"/>
          <p:cNvSpPr/>
          <p:nvPr/>
        </p:nvSpPr>
        <p:spPr>
          <a:xfrm>
            <a:off x="2832120" y="1852560"/>
            <a:ext cx="1212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20836"/>
          <p:cNvSpPr/>
          <p:nvPr/>
        </p:nvSpPr>
        <p:spPr>
          <a:xfrm>
            <a:off x="6443640" y="2881440"/>
            <a:ext cx="19177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20837"/>
          <p:cNvSpPr/>
          <p:nvPr/>
        </p:nvSpPr>
        <p:spPr>
          <a:xfrm>
            <a:off x="1317600" y="3395520"/>
            <a:ext cx="746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20838"/>
          <p:cNvSpPr/>
          <p:nvPr/>
        </p:nvSpPr>
        <p:spPr>
          <a:xfrm>
            <a:off x="5940360" y="3386160"/>
            <a:ext cx="1546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20839"/>
          <p:cNvSpPr/>
          <p:nvPr/>
        </p:nvSpPr>
        <p:spPr>
          <a:xfrm>
            <a:off x="4427640" y="3933720"/>
            <a:ext cx="12794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20840"/>
          <p:cNvSpPr/>
          <p:nvPr/>
        </p:nvSpPr>
        <p:spPr>
          <a:xfrm>
            <a:off x="3708360" y="4419720"/>
            <a:ext cx="34038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20841"/>
          <p:cNvSpPr/>
          <p:nvPr/>
        </p:nvSpPr>
        <p:spPr>
          <a:xfrm>
            <a:off x="2700360" y="5103720"/>
            <a:ext cx="15462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9809" descr=""/>
          <p:cNvPicPr/>
          <p:nvPr/>
        </p:nvPicPr>
        <p:blipFill>
          <a:blip r:embed="rId1"/>
          <a:stretch/>
        </p:blipFill>
        <p:spPr>
          <a:xfrm>
            <a:off x="557280" y="1023840"/>
            <a:ext cx="8029440" cy="481032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9810"/>
          <p:cNvSpPr/>
          <p:nvPr/>
        </p:nvSpPr>
        <p:spPr>
          <a:xfrm>
            <a:off x="7794720" y="2195640"/>
            <a:ext cx="4316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9811"/>
          <p:cNvSpPr/>
          <p:nvPr/>
        </p:nvSpPr>
        <p:spPr>
          <a:xfrm>
            <a:off x="7812000" y="3716280"/>
            <a:ext cx="432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8786" descr=""/>
          <p:cNvPicPr/>
          <p:nvPr/>
        </p:nvPicPr>
        <p:blipFill>
          <a:blip r:embed="rId1"/>
          <a:stretch/>
        </p:blipFill>
        <p:spPr>
          <a:xfrm>
            <a:off x="566640" y="1924200"/>
            <a:ext cx="8010720" cy="300960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8787"/>
          <p:cNvSpPr/>
          <p:nvPr/>
        </p:nvSpPr>
        <p:spPr>
          <a:xfrm>
            <a:off x="7861320" y="1947960"/>
            <a:ext cx="4316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7761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81920" cy="311472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17762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5067360" cy="89532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7763"/>
          <p:cNvSpPr/>
          <p:nvPr/>
        </p:nvSpPr>
        <p:spPr>
          <a:xfrm>
            <a:off x="7756560" y="2328840"/>
            <a:ext cx="4316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5:22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